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05593"/>
        <c:axId val="56502955"/>
      </c:barChart>
      <c:catAx>
        <c:axId val="55105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02955"/>
        <c:crosses val="autoZero"/>
        <c:auto val="1"/>
        <c:lblAlgn val="ctr"/>
        <c:lblOffset val="100"/>
        <c:noMultiLvlLbl val="0"/>
      </c:catAx>
      <c:valAx>
        <c:axId val="56502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5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DBA-AC26-4669-A7AA-0C3B861E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EA9-950F-4598-9E57-D822F056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538-10FB-495B-8EC0-306FDAE5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58B-BB21-42A8-8458-C849F534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975-C718-4656-B016-93A512AB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F54-C34C-4E33-8737-99D97AFE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8C9-D50D-4868-B79D-43751294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031-CAEF-4873-AC66-3D010C7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599-C37E-4B47-B1D7-BF4B5B1D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6DD-8B1C-448B-AC27-8AD903BC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2D6-82EA-4CAC-B1D9-B3A321C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C0D-2BD1-4374-A1AB-331B51D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3BD71-EBF7-4FD2-A0D9-5D0E8FB30C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